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14.jpeg" ContentType="image/jpeg"/>
  <Override PartName="/ppt/media/image8.png" ContentType="image/png"/>
  <Override PartName="/ppt/media/image39.jpeg" ContentType="image/jpeg"/>
  <Override PartName="/ppt/media/image13.png" ContentType="image/png"/>
  <Override PartName="/ppt/media/image37.jpeg" ContentType="image/jpeg"/>
  <Override PartName="/ppt/media/image30.png" ContentType="image/png"/>
  <Override PartName="/ppt/media/image5.png" ContentType="image/png"/>
  <Override PartName="/ppt/media/image29.jpeg" ContentType="image/jpeg"/>
  <Override PartName="/ppt/media/image32.jpeg" ContentType="image/jpeg"/>
  <Override PartName="/ppt/media/image38.jpeg" ContentType="image/jpeg"/>
  <Override PartName="/ppt/media/image12.jpeg" ContentType="image/jpeg"/>
  <Override PartName="/ppt/media/image34.png" ContentType="image/png"/>
  <Override PartName="/ppt/media/image40.jpeg" ContentType="image/jpeg"/>
  <Override PartName="/ppt/media/image41.png" ContentType="image/png"/>
  <Override PartName="/ppt/media/image43.wmf" ContentType="image/x-wmf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35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4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F101ACE1-2F3E-4095-B1C8-3C5CC61D15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894960" y="752400"/>
            <a:ext cx="4948200" cy="37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912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980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912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980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4480" cy="38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1463760" y="637524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4" marL="1827360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97136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  <a:ea typeface="msgothic"/>
              </a:rPr>
              <a:t>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msgothic"/>
              </a:rPr>
              <a:t>- </a:t>
            </a:r>
            <a:fld id="{CD375395-C6FD-4EF1-9D24-DF1BA7905ED7}" type="slidenum">
              <a:rPr b="1" lang="en-GB" sz="1400" spc="-1" strike="noStrike">
                <a:solidFill>
                  <a:srgbClr val="6666ff"/>
                </a:solidFill>
                <a:latin typeface="Bitstream Vera Sans"/>
                <a:ea typeface="msgothic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  <a:ea typeface="msgothic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5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amon Llul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as: 1235-1315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üsti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teos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Ars magna, generalis et ultim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99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5562720" y="1676520"/>
            <a:ext cx="2539800" cy="2590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" descr=""/>
          <p:cNvPicPr/>
          <p:nvPr/>
        </p:nvPicPr>
        <p:blipFill>
          <a:blip r:embed="rId2"/>
          <a:stretch/>
        </p:blipFill>
        <p:spPr>
          <a:xfrm>
            <a:off x="990720" y="2133720"/>
            <a:ext cx="3733560" cy="4211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eonardo da Vinc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a 1500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lkulaatori jooni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ljem ehitatud katseeksempla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5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06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3048120" y="1477800"/>
            <a:ext cx="3174840" cy="1113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2895480" y="4419720"/>
            <a:ext cx="3175200" cy="1217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17 sajand: sümbolkeeled matemaatika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naloogilisi sümbolkeeli püüti luua loogika jaoks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Kõik püüdlused ebaõnnestusid (kuni 19 sjandi lõpuni!)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13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chickard &amp; Pasca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1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chickard 1625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itis ehitanud olema liitva, lahutava, korrutava, jagava masin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ristlik filosoof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Blaise Pascal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640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itmeetiline masin: ainult liitis ja lahuta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hitas ca 50 tükk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7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18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4800600" y="2895480"/>
            <a:ext cx="3174840" cy="1981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tretch/>
        </p:blipFill>
        <p:spPr>
          <a:xfrm>
            <a:off x="1523880" y="2438280"/>
            <a:ext cx="2413080" cy="266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eibniz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aksa filosoo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646-1716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bnizi arvuti(1671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liitis, lahutas, korrutas, jaga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bniz lõi Boole’ga sarnaneva loogikasüsteemi, mis vajus unustus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bniz püüdis luua universaalset sümbolkeelt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lingua characteristica universal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ja seda keelt kasutava nn “arutlemise aritmeetika”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Bitstream Vera Sans"/>
              </a:rPr>
              <a:t>calculus rationato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)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4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25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302280" cy="1371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utus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glise patent, Henry Mill, 1714, ei ehitatu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meerika patent: 1829 William Austin Burt Detroidi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67, Christopher Latham Sholes, Carlos Glidden, Samual W. Soule leiutis: “Type-Writer“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mington:  1874 (jalgpedaaliga!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holes’ klaviatuur ca 1874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voraki klaviatuur ca 1936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31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3174840" cy="1219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2"/>
          <a:stretch/>
        </p:blipFill>
        <p:spPr>
          <a:xfrm>
            <a:off x="2895480" y="5029200"/>
            <a:ext cx="3175200" cy="1219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utusmasin püssitehas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4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mington Typewriter Co. model No. 2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ivil war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"In all history, no nation of mere agriculturists ever made successful  war against a nation of mechanics. . . .You are bound to fail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-Union officer William Tecumseh Sherman to a Southern friend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7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38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457200" y="1338120"/>
            <a:ext cx="3125880" cy="30067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4343400" y="1201680"/>
            <a:ext cx="4792680" cy="31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The invention of interchange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parts.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achines which would produce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from a preshaped mold, the variou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omponents needed to build 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tandard infantry rifle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nd workers on an assembly line who woul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onstruct it. The North, eager to experime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nd willing to try anything that smacke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f economic progress, decide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o test the waters of this inviting new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ethod of manufacture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8" descr=""/>
          <p:cNvPicPr/>
          <p:nvPr/>
        </p:nvPicPr>
        <p:blipFill>
          <a:blip r:embed="rId2"/>
          <a:stretch/>
        </p:blipFill>
        <p:spPr>
          <a:xfrm>
            <a:off x="5486400" y="3200400"/>
            <a:ext cx="2857680" cy="2057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okaa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a 1800, Jacquar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46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723960" y="1143000"/>
            <a:ext cx="2933640" cy="1600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2"/>
          <a:stretch/>
        </p:blipFill>
        <p:spPr>
          <a:xfrm>
            <a:off x="2286000" y="2057400"/>
            <a:ext cx="2598840" cy="1922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"/>
          <p:cNvPicPr/>
          <p:nvPr/>
        </p:nvPicPr>
        <p:blipFill>
          <a:blip r:embed="rId3"/>
          <a:stretch/>
        </p:blipFill>
        <p:spPr>
          <a:xfrm>
            <a:off x="2976480" y="3886200"/>
            <a:ext cx="3424320" cy="1922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4"/>
          <a:stretch/>
        </p:blipFill>
        <p:spPr>
          <a:xfrm>
            <a:off x="6172200" y="685800"/>
            <a:ext cx="2590920" cy="3657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okaa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BM-i perfokaar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55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943600" cy="2514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dustrialiseerimis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ööstuse teke ja põllumajanduse mehan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ööstuse automat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toritöö automat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61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" name="Line 6"/>
          <p:cNvSpPr/>
          <p:nvPr/>
        </p:nvSpPr>
        <p:spPr>
          <a:xfrm flipV="1">
            <a:off x="1600200" y="1137960"/>
            <a:ext cx="1440" cy="16095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Line 7"/>
          <p:cNvSpPr/>
          <p:nvPr/>
        </p:nvSpPr>
        <p:spPr>
          <a:xfrm>
            <a:off x="1600200" y="2743200"/>
            <a:ext cx="5257800" cy="14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Freeform 8"/>
          <p:cNvSpPr/>
          <p:nvPr/>
        </p:nvSpPr>
        <p:spPr>
          <a:xfrm>
            <a:off x="1917720" y="1241280"/>
            <a:ext cx="4691160" cy="1432080"/>
          </a:xfrm>
          <a:custGeom>
            <a:avLst/>
            <a:gdLst/>
            <a:ahLst/>
            <a:rect l="l" t="t" r="r" b="b"/>
            <a:pathLst>
              <a:path w="13029" h="3979">
                <a:moveTo>
                  <a:pt x="0" y="0"/>
                </a:moveTo>
                <a:cubicBezTo>
                  <a:pt x="345" y="309"/>
                  <a:pt x="734" y="558"/>
                  <a:pt x="1105" y="837"/>
                </a:cubicBezTo>
                <a:cubicBezTo>
                  <a:pt x="1438" y="1087"/>
                  <a:pt x="1740" y="1380"/>
                  <a:pt x="2110" y="1574"/>
                </a:cubicBezTo>
                <a:cubicBezTo>
                  <a:pt x="2473" y="1764"/>
                  <a:pt x="2707" y="2116"/>
                  <a:pt x="3148" y="2210"/>
                </a:cubicBezTo>
                <a:cubicBezTo>
                  <a:pt x="3508" y="2287"/>
                  <a:pt x="3795" y="2580"/>
                  <a:pt x="4153" y="2679"/>
                </a:cubicBezTo>
                <a:cubicBezTo>
                  <a:pt x="4500" y="2775"/>
                  <a:pt x="4866" y="2774"/>
                  <a:pt x="5224" y="2813"/>
                </a:cubicBezTo>
                <a:cubicBezTo>
                  <a:pt x="5591" y="2853"/>
                  <a:pt x="5865" y="3111"/>
                  <a:pt x="6229" y="3182"/>
                </a:cubicBezTo>
                <a:cubicBezTo>
                  <a:pt x="6575" y="3250"/>
                  <a:pt x="6923" y="3261"/>
                  <a:pt x="7267" y="3349"/>
                </a:cubicBezTo>
                <a:cubicBezTo>
                  <a:pt x="7597" y="3433"/>
                  <a:pt x="7934" y="3498"/>
                  <a:pt x="8272" y="3550"/>
                </a:cubicBezTo>
                <a:cubicBezTo>
                  <a:pt x="8603" y="3601"/>
                  <a:pt x="8941" y="3653"/>
                  <a:pt x="9277" y="3651"/>
                </a:cubicBezTo>
                <a:cubicBezTo>
                  <a:pt x="9644" y="3648"/>
                  <a:pt x="9947" y="3866"/>
                  <a:pt x="10315" y="3818"/>
                </a:cubicBezTo>
                <a:cubicBezTo>
                  <a:pt x="10651" y="3774"/>
                  <a:pt x="10984" y="3903"/>
                  <a:pt x="11320" y="3852"/>
                </a:cubicBezTo>
                <a:cubicBezTo>
                  <a:pt x="11677" y="3797"/>
                  <a:pt x="12003" y="3978"/>
                  <a:pt x="12358" y="3952"/>
                </a:cubicBezTo>
                <a:lnTo>
                  <a:pt x="12693" y="3952"/>
                </a:lnTo>
                <a:lnTo>
                  <a:pt x="13028" y="3952"/>
                </a:lnTo>
              </a:path>
            </a:pathLst>
          </a:custGeom>
          <a:noFill/>
          <a:ln w="936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Freeform 9"/>
          <p:cNvSpPr/>
          <p:nvPr/>
        </p:nvSpPr>
        <p:spPr>
          <a:xfrm>
            <a:off x="1952640" y="1266840"/>
            <a:ext cx="4691160" cy="1317600"/>
          </a:xfrm>
          <a:custGeom>
            <a:avLst/>
            <a:gdLst/>
            <a:ahLst/>
            <a:rect l="l" t="t" r="r" b="b"/>
            <a:pathLst>
              <a:path w="13029" h="3660">
                <a:moveTo>
                  <a:pt x="0" y="3651"/>
                </a:moveTo>
                <a:cubicBezTo>
                  <a:pt x="337" y="3659"/>
                  <a:pt x="686" y="3650"/>
                  <a:pt x="1005" y="3517"/>
                </a:cubicBezTo>
                <a:cubicBezTo>
                  <a:pt x="1324" y="3384"/>
                  <a:pt x="1687" y="3401"/>
                  <a:pt x="2010" y="3282"/>
                </a:cubicBezTo>
                <a:cubicBezTo>
                  <a:pt x="2362" y="3153"/>
                  <a:pt x="2688" y="2952"/>
                  <a:pt x="3048" y="2847"/>
                </a:cubicBezTo>
                <a:cubicBezTo>
                  <a:pt x="3412" y="2741"/>
                  <a:pt x="3675" y="2505"/>
                  <a:pt x="4053" y="2411"/>
                </a:cubicBezTo>
                <a:cubicBezTo>
                  <a:pt x="4411" y="2322"/>
                  <a:pt x="4742" y="2165"/>
                  <a:pt x="5091" y="2043"/>
                </a:cubicBezTo>
                <a:cubicBezTo>
                  <a:pt x="5450" y="1917"/>
                  <a:pt x="5726" y="1666"/>
                  <a:pt x="6096" y="1574"/>
                </a:cubicBezTo>
                <a:cubicBezTo>
                  <a:pt x="6452" y="1485"/>
                  <a:pt x="6790" y="1343"/>
                  <a:pt x="7134" y="1206"/>
                </a:cubicBezTo>
                <a:cubicBezTo>
                  <a:pt x="7480" y="1068"/>
                  <a:pt x="7834" y="1039"/>
                  <a:pt x="8172" y="904"/>
                </a:cubicBezTo>
                <a:cubicBezTo>
                  <a:pt x="8493" y="775"/>
                  <a:pt x="8859" y="802"/>
                  <a:pt x="9177" y="670"/>
                </a:cubicBezTo>
                <a:cubicBezTo>
                  <a:pt x="9520" y="527"/>
                  <a:pt x="9870" y="484"/>
                  <a:pt x="10215" y="368"/>
                </a:cubicBezTo>
                <a:cubicBezTo>
                  <a:pt x="10534" y="261"/>
                  <a:pt x="10884" y="233"/>
                  <a:pt x="11220" y="268"/>
                </a:cubicBezTo>
                <a:cubicBezTo>
                  <a:pt x="11578" y="306"/>
                  <a:pt x="11909" y="165"/>
                  <a:pt x="12258" y="134"/>
                </a:cubicBezTo>
                <a:lnTo>
                  <a:pt x="12593" y="101"/>
                </a:lnTo>
                <a:lnTo>
                  <a:pt x="12928" y="34"/>
                </a:lnTo>
                <a:lnTo>
                  <a:pt x="13028" y="0"/>
                </a:lnTo>
              </a:path>
            </a:pathLst>
          </a:custGeom>
          <a:noFill/>
          <a:ln w="936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5715000" y="1371600"/>
            <a:ext cx="1239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ööl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5486400" y="2081160"/>
            <a:ext cx="1600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õllume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12"/>
          <p:cNvSpPr/>
          <p:nvPr/>
        </p:nvSpPr>
        <p:spPr>
          <a:xfrm>
            <a:off x="1600200" y="4572000"/>
            <a:ext cx="5257800" cy="14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Freeform 13"/>
          <p:cNvSpPr/>
          <p:nvPr/>
        </p:nvSpPr>
        <p:spPr>
          <a:xfrm>
            <a:off x="1917720" y="3070080"/>
            <a:ext cx="4691160" cy="1432080"/>
          </a:xfrm>
          <a:custGeom>
            <a:avLst/>
            <a:gdLst/>
            <a:ahLst/>
            <a:rect l="l" t="t" r="r" b="b"/>
            <a:pathLst>
              <a:path w="13029" h="3979">
                <a:moveTo>
                  <a:pt x="0" y="0"/>
                </a:moveTo>
                <a:cubicBezTo>
                  <a:pt x="345" y="309"/>
                  <a:pt x="734" y="558"/>
                  <a:pt x="1105" y="837"/>
                </a:cubicBezTo>
                <a:cubicBezTo>
                  <a:pt x="1438" y="1087"/>
                  <a:pt x="1740" y="1380"/>
                  <a:pt x="2110" y="1574"/>
                </a:cubicBezTo>
                <a:cubicBezTo>
                  <a:pt x="2473" y="1764"/>
                  <a:pt x="2707" y="2116"/>
                  <a:pt x="3148" y="2210"/>
                </a:cubicBezTo>
                <a:cubicBezTo>
                  <a:pt x="3508" y="2287"/>
                  <a:pt x="3795" y="2580"/>
                  <a:pt x="4153" y="2679"/>
                </a:cubicBezTo>
                <a:cubicBezTo>
                  <a:pt x="4500" y="2775"/>
                  <a:pt x="4866" y="2774"/>
                  <a:pt x="5224" y="2813"/>
                </a:cubicBezTo>
                <a:cubicBezTo>
                  <a:pt x="5591" y="2853"/>
                  <a:pt x="5865" y="3111"/>
                  <a:pt x="6229" y="3182"/>
                </a:cubicBezTo>
                <a:cubicBezTo>
                  <a:pt x="6575" y="3250"/>
                  <a:pt x="6923" y="3261"/>
                  <a:pt x="7267" y="3349"/>
                </a:cubicBezTo>
                <a:cubicBezTo>
                  <a:pt x="7597" y="3433"/>
                  <a:pt x="7934" y="3498"/>
                  <a:pt x="8272" y="3550"/>
                </a:cubicBezTo>
                <a:cubicBezTo>
                  <a:pt x="8603" y="3601"/>
                  <a:pt x="8941" y="3653"/>
                  <a:pt x="9277" y="3651"/>
                </a:cubicBezTo>
                <a:cubicBezTo>
                  <a:pt x="9644" y="3648"/>
                  <a:pt x="9947" y="3866"/>
                  <a:pt x="10315" y="3818"/>
                </a:cubicBezTo>
                <a:cubicBezTo>
                  <a:pt x="10651" y="3774"/>
                  <a:pt x="10984" y="3903"/>
                  <a:pt x="11320" y="3852"/>
                </a:cubicBezTo>
                <a:cubicBezTo>
                  <a:pt x="11677" y="3797"/>
                  <a:pt x="12003" y="3978"/>
                  <a:pt x="12358" y="3952"/>
                </a:cubicBezTo>
                <a:lnTo>
                  <a:pt x="12693" y="3952"/>
                </a:lnTo>
                <a:lnTo>
                  <a:pt x="13028" y="3952"/>
                </a:lnTo>
              </a:path>
            </a:pathLst>
          </a:custGeom>
          <a:noFill/>
          <a:ln w="936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Freeform 14"/>
          <p:cNvSpPr/>
          <p:nvPr/>
        </p:nvSpPr>
        <p:spPr>
          <a:xfrm>
            <a:off x="1954080" y="3095640"/>
            <a:ext cx="4691160" cy="1317600"/>
          </a:xfrm>
          <a:custGeom>
            <a:avLst/>
            <a:gdLst/>
            <a:ahLst/>
            <a:rect l="l" t="t" r="r" b="b"/>
            <a:pathLst>
              <a:path w="13029" h="3660">
                <a:moveTo>
                  <a:pt x="0" y="3651"/>
                </a:moveTo>
                <a:cubicBezTo>
                  <a:pt x="337" y="3659"/>
                  <a:pt x="686" y="3650"/>
                  <a:pt x="1005" y="3517"/>
                </a:cubicBezTo>
                <a:cubicBezTo>
                  <a:pt x="1324" y="3384"/>
                  <a:pt x="1687" y="3401"/>
                  <a:pt x="2010" y="3282"/>
                </a:cubicBezTo>
                <a:cubicBezTo>
                  <a:pt x="2362" y="3153"/>
                  <a:pt x="2688" y="2952"/>
                  <a:pt x="3048" y="2847"/>
                </a:cubicBezTo>
                <a:cubicBezTo>
                  <a:pt x="3412" y="2741"/>
                  <a:pt x="3675" y="2505"/>
                  <a:pt x="4053" y="2411"/>
                </a:cubicBezTo>
                <a:cubicBezTo>
                  <a:pt x="4411" y="2322"/>
                  <a:pt x="4742" y="2165"/>
                  <a:pt x="5091" y="2043"/>
                </a:cubicBezTo>
                <a:cubicBezTo>
                  <a:pt x="5450" y="1917"/>
                  <a:pt x="5726" y="1666"/>
                  <a:pt x="6096" y="1574"/>
                </a:cubicBezTo>
                <a:cubicBezTo>
                  <a:pt x="6452" y="1485"/>
                  <a:pt x="6790" y="1343"/>
                  <a:pt x="7134" y="1206"/>
                </a:cubicBezTo>
                <a:cubicBezTo>
                  <a:pt x="7480" y="1068"/>
                  <a:pt x="7834" y="1039"/>
                  <a:pt x="8172" y="904"/>
                </a:cubicBezTo>
                <a:cubicBezTo>
                  <a:pt x="8493" y="775"/>
                  <a:pt x="8859" y="802"/>
                  <a:pt x="9177" y="670"/>
                </a:cubicBezTo>
                <a:cubicBezTo>
                  <a:pt x="9520" y="527"/>
                  <a:pt x="9870" y="484"/>
                  <a:pt x="10215" y="368"/>
                </a:cubicBezTo>
                <a:cubicBezTo>
                  <a:pt x="10534" y="261"/>
                  <a:pt x="10884" y="233"/>
                  <a:pt x="11220" y="268"/>
                </a:cubicBezTo>
                <a:cubicBezTo>
                  <a:pt x="11578" y="306"/>
                  <a:pt x="11909" y="165"/>
                  <a:pt x="12258" y="134"/>
                </a:cubicBezTo>
                <a:lnTo>
                  <a:pt x="12593" y="101"/>
                </a:lnTo>
                <a:lnTo>
                  <a:pt x="12928" y="34"/>
                </a:lnTo>
                <a:lnTo>
                  <a:pt x="13028" y="0"/>
                </a:lnTo>
              </a:path>
            </a:pathLst>
          </a:custGeom>
          <a:noFill/>
          <a:ln w="936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5715000" y="3200400"/>
            <a:ext cx="2103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ontoritöötaj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5486400" y="3909960"/>
            <a:ext cx="1239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ööl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Line 17"/>
          <p:cNvSpPr/>
          <p:nvPr/>
        </p:nvSpPr>
        <p:spPr>
          <a:xfrm flipV="1">
            <a:off x="1600200" y="2966760"/>
            <a:ext cx="1440" cy="16095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Freeform 18"/>
          <p:cNvSpPr/>
          <p:nvPr/>
        </p:nvSpPr>
        <p:spPr>
          <a:xfrm>
            <a:off x="1689120" y="4800600"/>
            <a:ext cx="4691160" cy="1432080"/>
          </a:xfrm>
          <a:custGeom>
            <a:avLst/>
            <a:gdLst/>
            <a:ahLst/>
            <a:rect l="l" t="t" r="r" b="b"/>
            <a:pathLst>
              <a:path w="13029" h="3979">
                <a:moveTo>
                  <a:pt x="0" y="0"/>
                </a:moveTo>
                <a:cubicBezTo>
                  <a:pt x="345" y="309"/>
                  <a:pt x="734" y="558"/>
                  <a:pt x="1105" y="837"/>
                </a:cubicBezTo>
                <a:cubicBezTo>
                  <a:pt x="1438" y="1087"/>
                  <a:pt x="1740" y="1380"/>
                  <a:pt x="2110" y="1574"/>
                </a:cubicBezTo>
                <a:cubicBezTo>
                  <a:pt x="2473" y="1764"/>
                  <a:pt x="2707" y="2116"/>
                  <a:pt x="3148" y="2210"/>
                </a:cubicBezTo>
                <a:cubicBezTo>
                  <a:pt x="3508" y="2287"/>
                  <a:pt x="3795" y="2580"/>
                  <a:pt x="4153" y="2679"/>
                </a:cubicBezTo>
                <a:cubicBezTo>
                  <a:pt x="4500" y="2775"/>
                  <a:pt x="4866" y="2774"/>
                  <a:pt x="5224" y="2813"/>
                </a:cubicBezTo>
                <a:cubicBezTo>
                  <a:pt x="5591" y="2853"/>
                  <a:pt x="5865" y="3111"/>
                  <a:pt x="6229" y="3182"/>
                </a:cubicBezTo>
                <a:cubicBezTo>
                  <a:pt x="6575" y="3250"/>
                  <a:pt x="6923" y="3261"/>
                  <a:pt x="7267" y="3349"/>
                </a:cubicBezTo>
                <a:cubicBezTo>
                  <a:pt x="7597" y="3433"/>
                  <a:pt x="7934" y="3498"/>
                  <a:pt x="8272" y="3550"/>
                </a:cubicBezTo>
                <a:cubicBezTo>
                  <a:pt x="8603" y="3601"/>
                  <a:pt x="8941" y="3653"/>
                  <a:pt x="9277" y="3651"/>
                </a:cubicBezTo>
                <a:cubicBezTo>
                  <a:pt x="9644" y="3648"/>
                  <a:pt x="9947" y="3866"/>
                  <a:pt x="10315" y="3818"/>
                </a:cubicBezTo>
                <a:cubicBezTo>
                  <a:pt x="10651" y="3774"/>
                  <a:pt x="10984" y="3903"/>
                  <a:pt x="11320" y="3852"/>
                </a:cubicBezTo>
                <a:cubicBezTo>
                  <a:pt x="11677" y="3797"/>
                  <a:pt x="12003" y="3978"/>
                  <a:pt x="12358" y="3952"/>
                </a:cubicBezTo>
                <a:lnTo>
                  <a:pt x="12693" y="3952"/>
                </a:lnTo>
                <a:lnTo>
                  <a:pt x="13028" y="3952"/>
                </a:lnTo>
              </a:path>
            </a:pathLst>
          </a:custGeom>
          <a:noFill/>
          <a:ln w="936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Freeform 19"/>
          <p:cNvSpPr/>
          <p:nvPr/>
        </p:nvSpPr>
        <p:spPr>
          <a:xfrm>
            <a:off x="1725480" y="4824360"/>
            <a:ext cx="4691160" cy="1317600"/>
          </a:xfrm>
          <a:custGeom>
            <a:avLst/>
            <a:gdLst/>
            <a:ahLst/>
            <a:rect l="l" t="t" r="r" b="b"/>
            <a:pathLst>
              <a:path w="13029" h="3660">
                <a:moveTo>
                  <a:pt x="0" y="3651"/>
                </a:moveTo>
                <a:cubicBezTo>
                  <a:pt x="337" y="3659"/>
                  <a:pt x="686" y="3650"/>
                  <a:pt x="1005" y="3517"/>
                </a:cubicBezTo>
                <a:cubicBezTo>
                  <a:pt x="1324" y="3384"/>
                  <a:pt x="1687" y="3401"/>
                  <a:pt x="2010" y="3282"/>
                </a:cubicBezTo>
                <a:cubicBezTo>
                  <a:pt x="2362" y="3153"/>
                  <a:pt x="2688" y="2952"/>
                  <a:pt x="3048" y="2847"/>
                </a:cubicBezTo>
                <a:cubicBezTo>
                  <a:pt x="3412" y="2741"/>
                  <a:pt x="3675" y="2505"/>
                  <a:pt x="4053" y="2411"/>
                </a:cubicBezTo>
                <a:cubicBezTo>
                  <a:pt x="4411" y="2322"/>
                  <a:pt x="4742" y="2165"/>
                  <a:pt x="5091" y="2043"/>
                </a:cubicBezTo>
                <a:cubicBezTo>
                  <a:pt x="5450" y="1917"/>
                  <a:pt x="5726" y="1666"/>
                  <a:pt x="6096" y="1574"/>
                </a:cubicBezTo>
                <a:cubicBezTo>
                  <a:pt x="6452" y="1485"/>
                  <a:pt x="6790" y="1343"/>
                  <a:pt x="7134" y="1206"/>
                </a:cubicBezTo>
                <a:cubicBezTo>
                  <a:pt x="7480" y="1068"/>
                  <a:pt x="7834" y="1039"/>
                  <a:pt x="8172" y="904"/>
                </a:cubicBezTo>
                <a:cubicBezTo>
                  <a:pt x="8493" y="775"/>
                  <a:pt x="8859" y="802"/>
                  <a:pt x="9177" y="670"/>
                </a:cubicBezTo>
                <a:cubicBezTo>
                  <a:pt x="9520" y="527"/>
                  <a:pt x="9870" y="484"/>
                  <a:pt x="10215" y="368"/>
                </a:cubicBezTo>
                <a:cubicBezTo>
                  <a:pt x="10534" y="261"/>
                  <a:pt x="10884" y="233"/>
                  <a:pt x="11220" y="268"/>
                </a:cubicBezTo>
                <a:cubicBezTo>
                  <a:pt x="11578" y="306"/>
                  <a:pt x="11909" y="165"/>
                  <a:pt x="12258" y="134"/>
                </a:cubicBezTo>
                <a:lnTo>
                  <a:pt x="12593" y="101"/>
                </a:lnTo>
                <a:lnTo>
                  <a:pt x="12928" y="34"/>
                </a:lnTo>
                <a:lnTo>
                  <a:pt x="13028" y="0"/>
                </a:lnTo>
              </a:path>
            </a:pathLst>
          </a:custGeom>
          <a:noFill/>
          <a:ln w="936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20"/>
          <p:cNvSpPr/>
          <p:nvPr/>
        </p:nvSpPr>
        <p:spPr>
          <a:xfrm>
            <a:off x="5486400" y="4930920"/>
            <a:ext cx="5698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21"/>
          <p:cNvSpPr/>
          <p:nvPr/>
        </p:nvSpPr>
        <p:spPr>
          <a:xfrm>
            <a:off x="5257800" y="5640480"/>
            <a:ext cx="23083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ontoritöötajad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22"/>
          <p:cNvSpPr/>
          <p:nvPr/>
        </p:nvSpPr>
        <p:spPr>
          <a:xfrm>
            <a:off x="1600200" y="6400800"/>
            <a:ext cx="5257800" cy="14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23"/>
          <p:cNvSpPr/>
          <p:nvPr/>
        </p:nvSpPr>
        <p:spPr>
          <a:xfrm flipV="1">
            <a:off x="1600200" y="4795560"/>
            <a:ext cx="1440" cy="16095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8305920" cy="805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rvutite ja arvutiteaduse sünd: null - teine maailmasõda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rane rehkendamise ajalug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tekk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amise teooria tekk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ed arvutid 17 sajandi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dustrialiseerimise ideoloogi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imaldav tehnoloogia: side ja mehaaniline infotöötl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ja arvutamise teooria väljaarenemine 20 sajandi esimesel pool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ed võimsad arvutid teises maailmasõja paik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6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57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harles Babbag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22: Difference Engine, jäi poolel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dee: Analytical Eng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ne programmeerija: Ada Lovelac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8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86" name="Picture 6" descr=""/>
          <p:cNvPicPr/>
          <p:nvPr/>
        </p:nvPicPr>
        <p:blipFill>
          <a:blip r:embed="rId1"/>
          <a:stretch/>
        </p:blipFill>
        <p:spPr>
          <a:xfrm>
            <a:off x="1117440" y="1793880"/>
            <a:ext cx="2540160" cy="3387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2"/>
          <a:stretch/>
        </p:blipFill>
        <p:spPr>
          <a:xfrm>
            <a:off x="5384880" y="1793880"/>
            <a:ext cx="2539800" cy="3006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harles Babbage: difference eng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0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91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3" name="Picture 6" descr=""/>
          <p:cNvPicPr/>
          <p:nvPr/>
        </p:nvPicPr>
        <p:blipFill>
          <a:blip r:embed="rId1"/>
          <a:stretch/>
        </p:blipFill>
        <p:spPr>
          <a:xfrm>
            <a:off x="685800" y="841320"/>
            <a:ext cx="2743200" cy="21304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2"/>
          <a:stretch/>
        </p:blipFill>
        <p:spPr>
          <a:xfrm>
            <a:off x="1193760" y="32004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"/>
          <p:cNvPicPr/>
          <p:nvPr/>
        </p:nvPicPr>
        <p:blipFill>
          <a:blip r:embed="rId3"/>
          <a:stretch/>
        </p:blipFill>
        <p:spPr>
          <a:xfrm>
            <a:off x="5257800" y="914400"/>
            <a:ext cx="3498840" cy="5013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elegraaf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80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rse 1837: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ktritelegraaf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heatstone 1857: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perfolin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te perfolin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02-1910: teleprint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199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1" name="Picture 6" descr=""/>
          <p:cNvPicPr/>
          <p:nvPr/>
        </p:nvPicPr>
        <p:blipFill>
          <a:blip r:embed="rId1"/>
          <a:stretch/>
        </p:blipFill>
        <p:spPr>
          <a:xfrm>
            <a:off x="2743200" y="1319040"/>
            <a:ext cx="3174840" cy="1500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"/>
          <p:cNvPicPr/>
          <p:nvPr/>
        </p:nvPicPr>
        <p:blipFill>
          <a:blip r:embed="rId2"/>
          <a:stretch/>
        </p:blipFill>
        <p:spPr>
          <a:xfrm>
            <a:off x="2743200" y="2895480"/>
            <a:ext cx="3174840" cy="533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"/>
          <p:cNvPicPr/>
          <p:nvPr/>
        </p:nvPicPr>
        <p:blipFill>
          <a:blip r:embed="rId3"/>
          <a:stretch/>
        </p:blipFill>
        <p:spPr>
          <a:xfrm>
            <a:off x="4800600" y="4456080"/>
            <a:ext cx="3174840" cy="125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eorge Boole, de Morga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(lausearvutuse) alused 1847-1854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lise algebra ideede kasutamine loogika jao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algebr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1A = A, 0A = 0, A+0 = A, A+1 = 1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+B = B+A, AB = BA, AA = A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6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07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usearvutuse al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oogikatehted on funktsioonid tõeväärtustel T ja V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nimkasutatud tehted on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amp;     (ja e. konjunktsioon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V    (või e. disjunktsioon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-     (ei e. eitus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=&gt;  (järeldus e. implikatsioon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==   (samasus e. ekvivalents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B       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B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-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A       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=&gt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------     --------     ----      --------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T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    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       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1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usearvutuse al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63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mentaartehetest saab kokku panna suvalisi avaldisi, mi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ealiseerivad tõeväärtusfunktsioo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(A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B))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=&gt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(B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C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---------------------------- 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T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T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V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V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2         1            4            3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6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17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aasaegse loogika alus: Gottlob Freg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93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1879: Kontseptuaalne notatsioo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"Begriffsschrift")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b kaasaegs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edikaatarvutus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äid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a(Jaan,Mihkel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a(Jaan,Ants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a(Ants,Peeter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x, y, z jaoks: Isa(x,y) &amp; Isa(y,z) =&gt; Vanaisa(x,z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õesta, et eksisteerivad z, u nii et Vanaisa(z,u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rege filosoofina: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logits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2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Bitstream Vera Sans"/>
              </a:rPr>
              <a:t>Loogika mitmekesisus </a:t>
            </a:r>
            <a:endParaRPr b="1" lang="en-US" sz="20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27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Line 6"/>
          <p:cNvSpPr/>
          <p:nvPr/>
        </p:nvSpPr>
        <p:spPr>
          <a:xfrm flipV="1">
            <a:off x="2895480" y="1058760"/>
            <a:ext cx="1800" cy="42832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Line 7"/>
          <p:cNvSpPr/>
          <p:nvPr/>
        </p:nvSpPr>
        <p:spPr>
          <a:xfrm>
            <a:off x="2895480" y="5334120"/>
            <a:ext cx="4419720" cy="14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304920" y="43434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uservut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264960" y="3716280"/>
            <a:ext cx="24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edikaatarvut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228600" y="29718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duktsioon jms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228600" y="2286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ist järku pred.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152280" y="160020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rgemat järku pred.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AutoShape 13"/>
          <p:cNvSpPr/>
          <p:nvPr/>
        </p:nvSpPr>
        <p:spPr>
          <a:xfrm>
            <a:off x="2973240" y="914400"/>
            <a:ext cx="190512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bstrakts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AutoShape 14"/>
          <p:cNvSpPr/>
          <p:nvPr/>
        </p:nvSpPr>
        <p:spPr>
          <a:xfrm>
            <a:off x="6171840" y="4800600"/>
            <a:ext cx="291852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jendusvahend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2438280" y="54100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nimaal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3276720" y="5791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uitsionistli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4267080" y="5410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assika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5257800" y="5803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daal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6019920" y="5410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neaar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Freeform 20"/>
          <p:cNvSpPr/>
          <p:nvPr/>
        </p:nvSpPr>
        <p:spPr>
          <a:xfrm>
            <a:off x="2924280" y="4390920"/>
            <a:ext cx="3012840" cy="930240"/>
          </a:xfrm>
          <a:custGeom>
            <a:avLst/>
            <a:gdLst/>
            <a:ahLst/>
            <a:rect l="l" t="t" r="r" b="b"/>
            <a:pathLst>
              <a:path w="8371" h="2582">
                <a:moveTo>
                  <a:pt x="0" y="0"/>
                </a:moveTo>
                <a:cubicBezTo>
                  <a:pt x="427" y="70"/>
                  <a:pt x="873" y="83"/>
                  <a:pt x="1287" y="216"/>
                </a:cubicBezTo>
                <a:cubicBezTo>
                  <a:pt x="1442" y="264"/>
                  <a:pt x="1874" y="414"/>
                  <a:pt x="2072" y="432"/>
                </a:cubicBezTo>
                <a:cubicBezTo>
                  <a:pt x="2623" y="480"/>
                  <a:pt x="4753" y="555"/>
                  <a:pt x="5150" y="573"/>
                </a:cubicBezTo>
                <a:cubicBezTo>
                  <a:pt x="5631" y="529"/>
                  <a:pt x="6094" y="489"/>
                  <a:pt x="6579" y="467"/>
                </a:cubicBezTo>
                <a:cubicBezTo>
                  <a:pt x="7210" y="507"/>
                  <a:pt x="7426" y="595"/>
                  <a:pt x="7942" y="895"/>
                </a:cubicBezTo>
                <a:cubicBezTo>
                  <a:pt x="8034" y="1041"/>
                  <a:pt x="8034" y="1160"/>
                  <a:pt x="8083" y="1328"/>
                </a:cubicBezTo>
                <a:cubicBezTo>
                  <a:pt x="8127" y="1482"/>
                  <a:pt x="8158" y="1478"/>
                  <a:pt x="8189" y="1610"/>
                </a:cubicBezTo>
                <a:cubicBezTo>
                  <a:pt x="8255" y="1883"/>
                  <a:pt x="8281" y="2166"/>
                  <a:pt x="8370" y="2435"/>
                </a:cubicBezTo>
                <a:cubicBezTo>
                  <a:pt x="8356" y="2483"/>
                  <a:pt x="8334" y="2581"/>
                  <a:pt x="8334" y="2581"/>
                </a:cubicBezTo>
              </a:path>
            </a:pathLst>
          </a:custGeom>
          <a:noFill/>
          <a:ln w="25560">
            <a:solidFill>
              <a:srgbClr val="3333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AutoShape 21"/>
          <p:cNvSpPr/>
          <p:nvPr/>
        </p:nvSpPr>
        <p:spPr>
          <a:xfrm>
            <a:off x="2954160" y="4765680"/>
            <a:ext cx="174960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henduv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Freeform 22"/>
          <p:cNvSpPr/>
          <p:nvPr/>
        </p:nvSpPr>
        <p:spPr>
          <a:xfrm>
            <a:off x="2884320" y="2281320"/>
            <a:ext cx="3351240" cy="3024000"/>
          </a:xfrm>
          <a:custGeom>
            <a:avLst/>
            <a:gdLst/>
            <a:ahLst/>
            <a:rect l="l" t="t" r="r" b="b"/>
            <a:pathLst>
              <a:path w="9307" h="8402">
                <a:moveTo>
                  <a:pt x="0" y="101"/>
                </a:moveTo>
                <a:cubicBezTo>
                  <a:pt x="833" y="0"/>
                  <a:pt x="1623" y="167"/>
                  <a:pt x="2434" y="317"/>
                </a:cubicBezTo>
                <a:cubicBezTo>
                  <a:pt x="3373" y="489"/>
                  <a:pt x="4436" y="432"/>
                  <a:pt x="5332" y="780"/>
                </a:cubicBezTo>
                <a:cubicBezTo>
                  <a:pt x="5557" y="961"/>
                  <a:pt x="5962" y="1212"/>
                  <a:pt x="6227" y="1318"/>
                </a:cubicBezTo>
                <a:cubicBezTo>
                  <a:pt x="6377" y="1380"/>
                  <a:pt x="6434" y="1384"/>
                  <a:pt x="6549" y="1499"/>
                </a:cubicBezTo>
                <a:cubicBezTo>
                  <a:pt x="6752" y="1702"/>
                  <a:pt x="6871" y="1953"/>
                  <a:pt x="7047" y="2178"/>
                </a:cubicBezTo>
                <a:cubicBezTo>
                  <a:pt x="7149" y="2628"/>
                  <a:pt x="6994" y="2055"/>
                  <a:pt x="7228" y="2535"/>
                </a:cubicBezTo>
                <a:cubicBezTo>
                  <a:pt x="7440" y="2967"/>
                  <a:pt x="6964" y="2421"/>
                  <a:pt x="7480" y="2928"/>
                </a:cubicBezTo>
                <a:cubicBezTo>
                  <a:pt x="7568" y="3157"/>
                  <a:pt x="7709" y="3250"/>
                  <a:pt x="7837" y="3466"/>
                </a:cubicBezTo>
                <a:cubicBezTo>
                  <a:pt x="7934" y="3629"/>
                  <a:pt x="7965" y="3792"/>
                  <a:pt x="8124" y="3894"/>
                </a:cubicBezTo>
                <a:cubicBezTo>
                  <a:pt x="8238" y="4132"/>
                  <a:pt x="8348" y="4361"/>
                  <a:pt x="8445" y="4608"/>
                </a:cubicBezTo>
                <a:cubicBezTo>
                  <a:pt x="8476" y="4846"/>
                  <a:pt x="8490" y="5053"/>
                  <a:pt x="8622" y="5256"/>
                </a:cubicBezTo>
                <a:cubicBezTo>
                  <a:pt x="8737" y="5807"/>
                  <a:pt x="8887" y="6354"/>
                  <a:pt x="9019" y="6901"/>
                </a:cubicBezTo>
                <a:cubicBezTo>
                  <a:pt x="9050" y="7258"/>
                  <a:pt x="9085" y="7629"/>
                  <a:pt x="9195" y="7973"/>
                </a:cubicBezTo>
                <a:cubicBezTo>
                  <a:pt x="9226" y="8065"/>
                  <a:pt x="9239" y="8167"/>
                  <a:pt x="9266" y="8259"/>
                </a:cubicBezTo>
                <a:cubicBezTo>
                  <a:pt x="9279" y="8308"/>
                  <a:pt x="9306" y="8401"/>
                  <a:pt x="9306" y="8401"/>
                </a:cubicBezTo>
              </a:path>
            </a:pathLst>
          </a:custGeom>
          <a:noFill/>
          <a:ln w="25560">
            <a:solidFill>
              <a:srgbClr val="3333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23"/>
          <p:cNvSpPr/>
          <p:nvPr/>
        </p:nvSpPr>
        <p:spPr>
          <a:xfrm>
            <a:off x="3124080" y="342900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esuunaliselt lahenduv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24"/>
          <p:cNvSpPr/>
          <p:nvPr/>
        </p:nvSpPr>
        <p:spPr>
          <a:xfrm>
            <a:off x="6705720" y="57913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temonotoon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Oval 25"/>
          <p:cNvSpPr/>
          <p:nvPr/>
        </p:nvSpPr>
        <p:spPr>
          <a:xfrm>
            <a:off x="5029200" y="3886200"/>
            <a:ext cx="304920" cy="304920"/>
          </a:xfrm>
          <a:prstGeom prst="ellipse">
            <a:avLst/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26"/>
          <p:cNvSpPr/>
          <p:nvPr/>
        </p:nvSpPr>
        <p:spPr>
          <a:xfrm flipH="1">
            <a:off x="5249520" y="2209680"/>
            <a:ext cx="1235160" cy="1676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AutoShape 27"/>
          <p:cNvSpPr/>
          <p:nvPr/>
        </p:nvSpPr>
        <p:spPr>
          <a:xfrm>
            <a:off x="6400800" y="1143000"/>
            <a:ext cx="2446200" cy="1009440"/>
          </a:xfrm>
          <a:prstGeom prst="roundRect">
            <a:avLst>
              <a:gd name="adj" fmla="val 1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assika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edikaatarvutu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r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ollerith’i perfokaa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09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90: Herman Hollerith: perfokaartidega masin USA rahvaloenduse andmete töötlemisek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llerith’i firmast tekki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IB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5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56" name="Picture 6" descr=""/>
          <p:cNvPicPr/>
          <p:nvPr/>
        </p:nvPicPr>
        <p:blipFill>
          <a:blip r:embed="rId1"/>
          <a:stretch/>
        </p:blipFill>
        <p:spPr>
          <a:xfrm>
            <a:off x="3352680" y="1477800"/>
            <a:ext cx="2286000" cy="24084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"/>
          <p:cNvPicPr/>
          <p:nvPr/>
        </p:nvPicPr>
        <p:blipFill>
          <a:blip r:embed="rId2"/>
          <a:stretch/>
        </p:blipFill>
        <p:spPr>
          <a:xfrm>
            <a:off x="2819520" y="5105520"/>
            <a:ext cx="3429000" cy="106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akumtor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0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61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3" name="Group 6"/>
          <p:cNvGrpSpPr/>
          <p:nvPr/>
        </p:nvGrpSpPr>
        <p:grpSpPr>
          <a:xfrm>
            <a:off x="685800" y="685800"/>
            <a:ext cx="6399360" cy="2589120"/>
            <a:chOff x="685800" y="685800"/>
            <a:chExt cx="6399360" cy="2589120"/>
          </a:xfrm>
        </p:grpSpPr>
        <p:grpSp>
          <p:nvGrpSpPr>
            <p:cNvPr id="264" name="Group 7"/>
            <p:cNvGrpSpPr/>
            <p:nvPr/>
          </p:nvGrpSpPr>
          <p:grpSpPr>
            <a:xfrm>
              <a:off x="685800" y="838080"/>
              <a:ext cx="4494240" cy="1664640"/>
              <a:chOff x="685800" y="838080"/>
              <a:chExt cx="4494240" cy="1664640"/>
            </a:xfrm>
          </p:grpSpPr>
          <p:sp>
            <p:nvSpPr>
              <p:cNvPr id="265" name="AutoShape 8"/>
              <p:cNvSpPr/>
              <p:nvPr/>
            </p:nvSpPr>
            <p:spPr>
              <a:xfrm>
                <a:off x="685800" y="838080"/>
                <a:ext cx="4494240" cy="1598760"/>
              </a:xfrm>
              <a:prstGeom prst="roundRect">
                <a:avLst>
                  <a:gd name="adj" fmla="val 9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Text Box 9"/>
              <p:cNvSpPr/>
              <p:nvPr/>
            </p:nvSpPr>
            <p:spPr>
              <a:xfrm>
                <a:off x="685800" y="838080"/>
                <a:ext cx="4494240" cy="16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338040" indent="-338040">
                  <a:lnSpc>
                    <a:spcPct val="88000"/>
                  </a:lnSpc>
                  <a:spcAft>
                    <a:spcPts val="1012"/>
                  </a:spcAft>
                  <a:buClr>
                    <a:srgbClr val="3333ff"/>
                  </a:buClr>
                  <a:buFont typeface="Wingdings" charset="2"/>
                  <a:buChar char=""/>
                  <a:tabLst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 u="sng">
                    <a:solidFill>
                      <a:srgbClr val="0000ff"/>
                    </a:solidFill>
                    <a:uFillTx/>
                    <a:latin typeface="Bitstream Vera Sans"/>
                    <a:ea typeface="宋体"/>
                  </a:rPr>
                  <a:t>Vacuum Tube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Bitstream Vera Sans"/>
                    <a:ea typeface="宋体"/>
                  </a:rPr>
                  <a:t> (1906, Lee Deforest)</a:t>
                </a:r>
                <a:r>
                  <a:rPr b="0" lang="ar-SA" sz="1800" spc="-1" strike="noStrike">
                    <a:solidFill>
                      <a:srgbClr val="0000ff"/>
                    </a:solidFill>
                    <a:latin typeface="Bitstream Vera Sans"/>
                    <a:ea typeface="Arial"/>
                  </a:rPr>
                  <a:t>‏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8040" indent="-338040">
                  <a:lnSpc>
                    <a:spcPct val="88000"/>
                  </a:lnSpc>
                  <a:buClr>
                    <a:srgbClr val="3333ff"/>
                  </a:buClr>
                  <a:buFont typeface="Wingdings" charset="2"/>
                  <a:buChar char=""/>
                  <a:tabLst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Three elements device used as electronic switch and amplifier: two electrodes separated by a grid in a vacuum glass enclosure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267" name="Picture 10" descr=""/>
            <p:cNvPicPr/>
            <p:nvPr/>
          </p:nvPicPr>
          <p:blipFill>
            <a:blip r:embed="rId1"/>
            <a:stretch/>
          </p:blipFill>
          <p:spPr>
            <a:xfrm>
              <a:off x="5867280" y="685800"/>
              <a:ext cx="1217880" cy="258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8" name="Group 11"/>
          <p:cNvGrpSpPr/>
          <p:nvPr/>
        </p:nvGrpSpPr>
        <p:grpSpPr>
          <a:xfrm>
            <a:off x="380880" y="3505320"/>
            <a:ext cx="8533080" cy="3139920"/>
            <a:chOff x="380880" y="3505320"/>
            <a:chExt cx="8533080" cy="3139920"/>
          </a:xfrm>
        </p:grpSpPr>
        <p:grpSp>
          <p:nvGrpSpPr>
            <p:cNvPr id="269" name="Group 12"/>
            <p:cNvGrpSpPr/>
            <p:nvPr/>
          </p:nvGrpSpPr>
          <p:grpSpPr>
            <a:xfrm>
              <a:off x="380880" y="3751200"/>
              <a:ext cx="4951440" cy="2894040"/>
              <a:chOff x="380880" y="3751200"/>
              <a:chExt cx="4951440" cy="2894040"/>
            </a:xfrm>
          </p:grpSpPr>
          <p:sp>
            <p:nvSpPr>
              <p:cNvPr id="270" name="AutoShape 13"/>
              <p:cNvSpPr/>
              <p:nvPr/>
            </p:nvSpPr>
            <p:spPr>
              <a:xfrm>
                <a:off x="380880" y="3751200"/>
                <a:ext cx="4951440" cy="2894040"/>
              </a:xfrm>
              <a:prstGeom prst="roundRect">
                <a:avLst>
                  <a:gd name="adj" fmla="val 5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Text Box 14"/>
              <p:cNvSpPr/>
              <p:nvPr/>
            </p:nvSpPr>
            <p:spPr>
              <a:xfrm>
                <a:off x="380880" y="3751200"/>
                <a:ext cx="4951440" cy="27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338040" indent="-338040">
                  <a:lnSpc>
                    <a:spcPct val="88000"/>
                  </a:lnSpc>
                  <a:spcAft>
                    <a:spcPts val="788"/>
                  </a:spcAft>
                  <a:buClr>
                    <a:srgbClr val="3333ff"/>
                  </a:buClr>
                  <a:buFont typeface="Wingdings" charset="2"/>
                  <a:buChar char=""/>
                  <a:tabLst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 u="sng">
                    <a:solidFill>
                      <a:srgbClr val="0000ff"/>
                    </a:solidFill>
                    <a:uFillTx/>
                    <a:latin typeface="Bitstream Vera Sans"/>
                    <a:ea typeface="宋体"/>
                  </a:rPr>
                  <a:t>Principl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8040" indent="-338040">
                  <a:lnSpc>
                    <a:spcPct val="88000"/>
                  </a:lnSpc>
                  <a:tabLst>
                    <a:tab algn="l" pos="0"/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Cathod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- emits electrons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8040" indent="-338040">
                  <a:lnSpc>
                    <a:spcPct val="88000"/>
                  </a:lnSpc>
                  <a:spcBef>
                    <a:spcPts val="337"/>
                  </a:spcBef>
                  <a:tabLst>
                    <a:tab algn="l" pos="0"/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Plate (anode)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- receives the electrons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338040" indent="-338040">
                  <a:lnSpc>
                    <a:spcPct val="88000"/>
                  </a:lnSpc>
                  <a:spcBef>
                    <a:spcPts val="451"/>
                  </a:spcBef>
                  <a:tabLst>
                    <a:tab algn="l" pos="0"/>
                    <a:tab algn="l" pos="338040"/>
                    <a:tab algn="l" pos="795240"/>
                    <a:tab algn="l" pos="1252440"/>
                    <a:tab algn="l" pos="1709640"/>
                    <a:tab algn="l" pos="2166840"/>
                    <a:tab algn="l" pos="2624040"/>
                    <a:tab algn="l" pos="3081240"/>
                    <a:tab algn="l" pos="3538440"/>
                    <a:tab algn="l" pos="3995640"/>
                    <a:tab algn="l" pos="4452840"/>
                    <a:tab algn="l" pos="4910040"/>
                    <a:tab algn="l" pos="5367240"/>
                    <a:tab algn="l" pos="5824440"/>
                    <a:tab algn="l" pos="6281640"/>
                    <a:tab algn="l" pos="6738840"/>
                    <a:tab algn="l" pos="7196040"/>
                    <a:tab algn="l" pos="7653240"/>
                    <a:tab algn="l" pos="8110440"/>
                    <a:tab algn="l" pos="8567640"/>
                    <a:tab algn="l" pos="9024840"/>
                    <a:tab algn="l" pos="948204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    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Grid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Bitstream Vera Sans"/>
                    <a:ea typeface="宋体"/>
                  </a:rPr>
                  <a:t> - with negative bias voltage repels some of the electrons and prevents them from reaching the plate, resulting in less current flow. A changing negative charge on the grid modulates the plate current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Group 15"/>
            <p:cNvGrpSpPr/>
            <p:nvPr/>
          </p:nvGrpSpPr>
          <p:grpSpPr>
            <a:xfrm>
              <a:off x="7010280" y="3505320"/>
              <a:ext cx="1903680" cy="2556360"/>
              <a:chOff x="7010280" y="3505320"/>
              <a:chExt cx="1903680" cy="2556360"/>
            </a:xfrm>
          </p:grpSpPr>
          <p:pic>
            <p:nvPicPr>
              <p:cNvPr id="273" name="Pictur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7061040" y="3505320"/>
                <a:ext cx="1751040" cy="25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Text Box 17"/>
              <p:cNvSpPr/>
              <p:nvPr/>
            </p:nvSpPr>
            <p:spPr>
              <a:xfrm>
                <a:off x="7061040" y="5860800"/>
                <a:ext cx="1065240" cy="20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athod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Text Box 18"/>
              <p:cNvSpPr/>
              <p:nvPr/>
            </p:nvSpPr>
            <p:spPr>
              <a:xfrm>
                <a:off x="8102520" y="3509640"/>
                <a:ext cx="811440" cy="20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nod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Text Box 19"/>
              <p:cNvSpPr/>
              <p:nvPr/>
            </p:nvSpPr>
            <p:spPr>
              <a:xfrm>
                <a:off x="7010280" y="3566880"/>
                <a:ext cx="532080" cy="20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Gri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v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rvud kontidel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riood 20,000 - 30,000 aastat tagasi Cro-Magnon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imese ilmu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büloonia: positsiooniline 60-süsteem 1900 kuni 1800 BC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iade arvusüstee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ull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büloonia 300 BC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dia 600 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bak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büloonia 1,000 BC kuni 500 BC,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6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4876920" y="2514600"/>
            <a:ext cx="30477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ulgateooria: Georg Canto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as 1845-1918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gateooria rajaj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radokside avastamine matemaatika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ka alused korraga ebakindl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80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ussell &amp; Whitehe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1910-1913: massiivne loogikatraktaat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rincipia Mathematic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aradoksid -&gt; tüüpide teeori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Filosoofilised vaated: logitsism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4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85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ormalism; Hilber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ogik ja matemaatik: 1862-1943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losoofilistelt vaadetelt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formal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Hilberti programm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” matemaatikale kindlate aluste rajamise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temaatika alused tuleb esitada loogika keeles, range aksiomaatikana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leb tõestada, et nimetatud aksiomaatika ei ole vastuoluline, st temast ei ole võimalik tuletada korraga mingit väidet A ja sellesama väite eitust  -A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9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90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uitsionism: Brouwer &amp; Heyti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99920" y="7621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Ei aktsepteeri näiteks: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 v -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-A &lt;=&gt; 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(((A =&gt; B) =&gt; A) =&gt; 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A)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4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295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ormaalne 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arski ja Carnap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üntak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uletamisreeglite süstee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emant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00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äielikkus ja mittetäielikk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6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t Gödel (1906-1978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0: loogika baaskeel predikaatarvutus on täieli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1: formaalne aritmeetika ei ole täielik, seda ei saagi lõpliku formaalse süsteemiga kirjeldad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õestuse ide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õestuse alusidee on tuntud valetaja paradoks: kas väide ``ma praegu valetan'' on tõene või mitte? Lihtne arutlus näitab, et ta ei saa olla kumbagi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ostame nüüd sellise aritmeetilise väite A, mis ütleb, et seesama A ei ole tõestatav (see väide ei ütle, et A ei ole tõsi!). Siis ei saa väide A ise olla vale. Tõepoolest, kui A oleks vale, siis A sisu kohaselt peaks A olema tõestatav. Kuna me valesid väiteid tõestada ei saa, siib peabki A olema õige. Kuna A on õige, peab kehtima see, mida A väidab: A pole tõestatav. Tõepoolest, kui A oleks tõestatav, siis oleks A sisu ("A ei ole tõestatav") vale, see on aga, nagu näidatud, võimatu. Kokkuvõtteks, A on õige, aga ei A ega A eitus pole tõestatavad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4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05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000" spc="-1" strike="noStrike">
                <a:solidFill>
                  <a:srgbClr val="000099"/>
                </a:solidFill>
                <a:latin typeface="Bitstream Vera Sans"/>
              </a:rPr>
              <a:t>Turingi masin &amp; Churchi lambda-arvutus</a:t>
            </a:r>
            <a:endParaRPr b="1" lang="en-US" sz="20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5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5-1937: artikkel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uringi masinast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niversaalsus, mittelahenduv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6: Church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ambda-arvutu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hurchi tee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universaalsus, mittelahenduvu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10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12" name="Picture 6" descr=""/>
          <p:cNvPicPr/>
          <p:nvPr/>
        </p:nvPicPr>
        <p:blipFill>
          <a:blip r:embed="rId1"/>
          <a:stretch/>
        </p:blipFill>
        <p:spPr>
          <a:xfrm>
            <a:off x="3454560" y="1952640"/>
            <a:ext cx="2286000" cy="2695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nnevar Bush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MIT: 1930-1935-1937: Differential Analyzer dif. võrrandite lahendamiseks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Viimane versioon: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alus 100 tonn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2000 elektronlamp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50 mootori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handed relee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5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16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udwig Wittgenste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89-195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alüütilise filosoofia juhtkuj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nustas loogilise positivismi ja Viini ringi teke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testatud tekst koosneb kas (a) loogika ja matemaatika formaalsetest väidetest või (b) konkreetsete teadusharude fakte esitavatest lausetest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sugusel fakti esitaval väitel on sisu ainult siis, kui on võimalik öelda, kuidas selle väite kehtivust kontrollida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tafüüsilised väited, mis ei lange punktide 1 ja 2 alla, on sisutud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ik moraali, esteetikat ja religiooni käsitlevad väited on mittekontrollitavad ja mõttetud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20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21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laude Shann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, 1938, Shannon’i magistritöö sid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oole algebr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ktrilülitid ja -skee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tid ja info kodeeri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fo otsimise algorit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25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26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28" name="Picture 6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3809880" cy="3448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olem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7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assikalisest kreeka keelest sõnast λόγος (logos), algtähendusega sõna ehk mida räägitakse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on teadus mõtlemise alustes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 uurib mõtlemise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paratamatu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aspekte ehk seda, mis üldse teeb mõtlemisest mõtlemise ehk õige mõtlemise ehk seda, mida ja kuidas üldse mõelda saab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formaalne loogika: teatud vaidlusmeetodite analüü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maalne loogik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eglisüsteemid ja algoritmid nö mehaaniliseks järelduste tegemisek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eglisüsteemide kui matemaatiliste objektide uurimi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d on mõtlemise masina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7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68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arvut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3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34" name="Picture 6" descr=""/>
          <p:cNvPicPr/>
          <p:nvPr/>
        </p:nvPicPr>
        <p:blipFill>
          <a:blip r:embed="rId1"/>
          <a:stretch/>
        </p:blipFill>
        <p:spPr>
          <a:xfrm>
            <a:off x="714240" y="685800"/>
            <a:ext cx="4543560" cy="27432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7" descr=""/>
          <p:cNvPicPr/>
          <p:nvPr/>
        </p:nvPicPr>
        <p:blipFill>
          <a:blip r:embed="rId2"/>
          <a:stretch/>
        </p:blipFill>
        <p:spPr>
          <a:xfrm>
            <a:off x="3657600" y="297180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8"/>
          <p:cNvSpPr/>
          <p:nvPr/>
        </p:nvSpPr>
        <p:spPr>
          <a:xfrm>
            <a:off x="1143000" y="4572000"/>
            <a:ext cx="512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arvut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1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Konrad Zus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tavate arvutite pioneer saksamaal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936-38: Z1: puhtmehaanil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938: Z2: rehkendus releedeg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941: Z3 perfolindiga, universaalselt programmeeritav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944-50: Z4: kommertsiaalne digitaalarvuti Zürichi tehnikaülikoolile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1560" indent="-2271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leedega rehkend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1560" indent="-2271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haaniline mälu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950-1967: Z5 ... Z64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y 1967, the Zuse KG had built a total of 251 computers. Due to financial problems, the company was then sold to Siemen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9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40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tanasoff’i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ohn Vincent Atanasoff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9-1942: esimene elektronarvuti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45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47" name="Picture 6" descr=""/>
          <p:cNvPicPr/>
          <p:nvPr/>
        </p:nvPicPr>
        <p:blipFill>
          <a:blip r:embed="rId1"/>
          <a:stretch/>
        </p:blipFill>
        <p:spPr>
          <a:xfrm>
            <a:off x="1467000" y="1371600"/>
            <a:ext cx="6076800" cy="4800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orden bombsigh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50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51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53" name="Picture 6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4191120" cy="5311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nigma, Geheimfernschreiber ja Lorenz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nigma: alates 1920 aastate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renz SZ 40 and SZ 42 ja  Geheimfernschreiber: Saksa lennu- ja mereväg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56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57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59" name="Picture 6" descr=""/>
          <p:cNvPicPr/>
          <p:nvPr/>
        </p:nvPicPr>
        <p:blipFill>
          <a:blip r:embed="rId1"/>
          <a:stretch/>
        </p:blipFill>
        <p:spPr>
          <a:xfrm>
            <a:off x="3200400" y="3657600"/>
            <a:ext cx="3886200" cy="29718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7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3292560" cy="32004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8" descr=""/>
          <p:cNvPicPr/>
          <p:nvPr/>
        </p:nvPicPr>
        <p:blipFill>
          <a:blip r:embed="rId3"/>
          <a:stretch/>
        </p:blipFill>
        <p:spPr>
          <a:xfrm>
            <a:off x="5130720" y="1473120"/>
            <a:ext cx="3556080" cy="2641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olossus vs Lorenz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ndonis 1943: saksa allveelaevade salakirja dekodeerimisek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800 elektronlamp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deoloogia ja matemaatika: olulises osas Alan Turing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65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67" name="Picture 6" descr=""/>
          <p:cNvPicPr/>
          <p:nvPr/>
        </p:nvPicPr>
        <p:blipFill>
          <a:blip r:embed="rId1"/>
          <a:stretch/>
        </p:blipFill>
        <p:spPr>
          <a:xfrm>
            <a:off x="853920" y="2286000"/>
            <a:ext cx="3718080" cy="29718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7" descr=""/>
          <p:cNvPicPr/>
          <p:nvPr/>
        </p:nvPicPr>
        <p:blipFill>
          <a:blip r:embed="rId2"/>
          <a:stretch/>
        </p:blipFill>
        <p:spPr>
          <a:xfrm>
            <a:off x="4165560" y="4114800"/>
            <a:ext cx="4064040" cy="2197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rk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ward Aiken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BM’i elektriline (releed) digitaalne arvuti MARK 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9-1944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750.000 komponent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5 tonn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1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72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74" name="Picture 6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4647960" cy="3137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ukes: massive comp necessary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5335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iss atomic bomb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7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78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80" name="Picture 6" descr=""/>
          <p:cNvPicPr/>
          <p:nvPr/>
        </p:nvPicPr>
        <p:blipFill>
          <a:blip r:embed="rId1"/>
          <a:stretch/>
        </p:blipFill>
        <p:spPr>
          <a:xfrm>
            <a:off x="2679840" y="1434960"/>
            <a:ext cx="3722400" cy="473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irst operative digital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38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6" name="Text Box 6"/>
          <p:cNvSpPr/>
          <p:nvPr/>
        </p:nvSpPr>
        <p:spPr>
          <a:xfrm>
            <a:off x="1600200" y="1600200"/>
            <a:ext cx="228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7" name="Object 7"/>
          <p:cNvGraphicFramePr/>
          <p:nvPr/>
        </p:nvGraphicFramePr>
        <p:xfrm>
          <a:off x="228600" y="1828800"/>
          <a:ext cx="868680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8686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a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2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Fundamentaalseid mõtlemismeetodei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eduktsioo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Induktsioo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Matemaatika sissetulek: muutujad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Lausemuutuja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A ja B, siis A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ei ole tõsi, et A ja mitte A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A-st järeldub B, ning A on tõsi, siis ka B on tõsi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Omaduse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kõigil asjadel on omadus P, siis on olemas asi, millel on omadus P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???  Kui on olemas asi, millel on omadus P, siis on kõigil asjadel omadus P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2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73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tek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rmenides (5 sajand e.m.a.) : kasutas pikki loogilisi põhjendusi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Zenon Eleast (5 sajand e.m.a.)  - apooriad/paradoks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fistid -  Sokrates (470-399 e.m.a)  - Platon (428/427 - 348/347 e.m.a)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Aristoteles: väidete struktuur kui iseseisev uurimisobjek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7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78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2514600" y="3146400"/>
            <a:ext cx="4572000" cy="302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ka teke: Aristotel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2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üllogismide näite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. eeldus: iga koer on imetaja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. eeldus: mõned neljajalgsed on koerad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eldus: mõned neljajalgsed on imetaja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. eeldus: kõik luiged on valge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. eeldus: mõni lind on luik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eldus: mõni lind on valge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uletuse struktuuri võib seega esitada muutujate x,y ja z abil ning tuletus on õige sõltumata fraasidest, millega neid muutujaid asendad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. eeldus: iga x on y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. eeldus: mõni z on x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eldus: mõni z on y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8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istotelese “kategoorilised väited”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4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b on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te ükski b pole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ni b on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ni b ei ole 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süllogis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väitlus, kus mingitest etteantud väidetest (eeldustest) järeldub paratamatult uus väide. Aristotelese puhul alati kaks kategoorilist eeldust, üks kategooriline järeldu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8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89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toikud: lausearvu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19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oikud uurisid, kuidas saab loogiliste sidesõnade (ja, ei, või, kui...siis) abil lihtsamatest lausetest keerulisemaid kokku panna ja kuidas näidata selliselt moodustatud lausete õigsus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esimene, siis teine; esimene; järelikult tein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999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((X -&gt; Y)  &amp;  X)  -&gt; Y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999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5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esimene, siis teine; mitte teine; järelikult mitte esimen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99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((X -&gt; Y)  &amp;  -X)  -&gt;  -Y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99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tandard Symbols L"/>
                <a:ea typeface="Standard Symbols 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914400" y="298080"/>
            <a:ext cx="7770960" cy="312840"/>
            <a:chOff x="914400" y="298080"/>
            <a:chExt cx="7770960" cy="312840"/>
          </a:xfrm>
        </p:grpSpPr>
        <p:sp>
          <p:nvSpPr>
            <p:cNvPr id="94" name="Line 4"/>
            <p:cNvSpPr/>
            <p:nvPr/>
          </p:nvSpPr>
          <p:spPr>
            <a:xfrm>
              <a:off x="914400" y="6066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Line 5"/>
            <p:cNvSpPr/>
            <p:nvPr/>
          </p:nvSpPr>
          <p:spPr>
            <a:xfrm flipV="1">
              <a:off x="8685360" y="298080"/>
              <a:ext cx="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 Tammet</cp:lastModifiedBy>
  <dcterms:modified xsi:type="dcterms:W3CDTF">2017-09-13T20:22:30Z</dcterms:modified>
  <cp:revision>2</cp:revision>
  <dc:subject/>
  <dc:title> </dc:title>
</cp:coreProperties>
</file>